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3C45-FF41-4777-8825-BEE6453302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944712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CF4E-0F52-4BC1-9694-394F4B923F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3314-6381-40B2-B838-E7355605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77F-7D38-4554-BAB1-545F9074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4FF-48DF-47E2-851D-C5AA42C9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64E-3B30-491D-85EC-ACFD9FE8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F2C3-36FC-4BF3-85B6-AA60830F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D319-AD6B-4A80-83A0-C7F916A3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D923-7617-4F1F-A99C-E0B366B3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93FA-52A2-4EF9-9649-B2116926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50CA-92E3-4F0D-813B-E9B2C4EB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F847-406F-4783-AAE5-76EC2C0A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2B5E-4CE7-4BAE-A67B-B4012FED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8E7-5AA1-4DE2-81A6-64C0DDA3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FAD1-7D2D-44E2-8BED-73780992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E0C9-748A-4BF7-B977-9F891929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5F51-E483-4434-90BA-7DFF5318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4F09-3A98-4FC8-9E4F-9239C929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E53B-04FA-4DE4-BA8C-3035A040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4D957-7EAA-4F98-AFC8-BAFF50F8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5909F-C03C-44E2-88EC-BC20C387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ABA0C-52A6-4584-8A10-8D29C7AA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F1FDA-F537-4943-B3CE-CDCE709A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411BD-03A8-4673-A8FE-8C771BA9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290-09E4-409E-A595-EF0B2523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170A3-4301-4D50-89BF-2F884378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8C28C-1E85-488D-9538-8818112B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3693C-D9C5-45BB-8878-5CB5B1F4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72FEA-96DA-4CCA-91C0-A9C6D776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A293E-AA01-429A-845B-9E34B408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F45C5-BA23-448D-B769-91B05122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43719-A864-4556-8FDF-E9DE40B1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8E2F8-9479-4F0F-8E75-73C43A1C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911E6-F9E8-4C07-BC8C-74BF4DD6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0D66B-5680-449D-999D-8B4255D6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59D-F6C3-4BF4-B22D-ADDFB03A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1C1CF-59EA-4C5E-827C-48D4DAC6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7CDC7-D2AA-4CBD-B9C7-78840620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1EFC8-6C31-4871-8D78-6B439934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AA567-C33B-4AF8-84B8-1279C490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EB846-8135-46C5-A67B-CDBB36C5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A7F0E-108F-489F-8372-5A42DB54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43967-302D-46A4-A5F5-6753249F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40476-1D64-41DD-8A50-BCA60642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1519A-E6D1-4A67-BD17-47043EE1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2DA1-2C64-42BF-B097-A13CBB16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C2B3-8FB9-42A2-82F3-B279F0D6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F93-9042-40DD-B67A-2DB32F6F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539-F514-466C-9714-38C35E6C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AA53-D7B4-4B42-A054-A4368694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C537-42A9-4F46-9F76-B4FC000DF7B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02DD-8D80-49BD-8D68-0C976947C8A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71BD-6532-4E13-BECA-7B88548C269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5DCE-D8E5-48C1-A3BF-7AEBE1F53D4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1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1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9"/>
          <p:cNvSpPr/>
          <p:nvPr/>
        </p:nvSpPr>
        <p:spPr>
          <a:xfrm>
            <a:off x="609480" y="762120"/>
            <a:ext cx="82296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Колонтитул"/>
          <p:cNvPicPr/>
          <p:nvPr/>
        </p:nvPicPr>
        <p:blipFill>
          <a:blip r:embed="rId1"/>
          <a:stretch/>
        </p:blipFill>
        <p:spPr>
          <a:xfrm>
            <a:off x="0" y="6040440"/>
            <a:ext cx="9144000" cy="8301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7"/>
          <p:cNvSpPr/>
          <p:nvPr/>
        </p:nvSpPr>
        <p:spPr>
          <a:xfrm>
            <a:off x="42840" y="1122480"/>
            <a:ext cx="9048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306a"/>
                </a:solidFill>
                <a:latin typeface="Segoe UI"/>
                <a:ea typeface="Segoe UI"/>
              </a:rPr>
              <a:t>Информация к докла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306a"/>
                </a:solidFill>
                <a:latin typeface="Segoe UI"/>
                <a:ea typeface="Segoe UI"/>
              </a:rPr>
              <a:t>«О бюджетном процес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306a"/>
                </a:solidFill>
                <a:latin typeface="Segoe UI"/>
                <a:ea typeface="Segoe UI"/>
              </a:rPr>
              <a:t>в Белоярском райо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306a"/>
                </a:solidFill>
                <a:latin typeface="Segoe UI"/>
                <a:ea typeface="Segoe UI"/>
              </a:rPr>
              <a:t>О принципах формирования бюджета Белояр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"/>
          <p:cNvSpPr/>
          <p:nvPr/>
        </p:nvSpPr>
        <p:spPr>
          <a:xfrm>
            <a:off x="-6480" y="5178600"/>
            <a:ext cx="9147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821a08"/>
                </a:solidFill>
                <a:latin typeface="Segoe UI"/>
                <a:ea typeface="Segoe UI"/>
              </a:rPr>
              <a:t>  </a:t>
            </a:r>
            <a:r>
              <a:rPr b="1" i="1" lang="ru-RU" sz="1500" spc="-1" strike="noStrike">
                <a:solidFill>
                  <a:srgbClr val="21306a"/>
                </a:solidFill>
                <a:latin typeface="Segoe UI"/>
                <a:ea typeface="Segoe UI"/>
              </a:rPr>
              <a:t>Докладчик: Ирина Юрьевна Гисс - заместитель главы Белоярского района, председатель Комитета по финансам и налоговой политике администрации Белоярского район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2"/>
          <a:stretch/>
        </p:blipFill>
        <p:spPr>
          <a:xfrm>
            <a:off x="-92160" y="-60480"/>
            <a:ext cx="1811520" cy="3005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"/>
          <p:cNvPicPr/>
          <p:nvPr/>
        </p:nvPicPr>
        <p:blipFill>
          <a:blip r:embed="rId3"/>
          <a:stretch/>
        </p:blipFill>
        <p:spPr>
          <a:xfrm>
            <a:off x="7848720" y="144360"/>
            <a:ext cx="1110960" cy="13510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"/>
          <p:cNvSpPr/>
          <p:nvPr/>
        </p:nvSpPr>
        <p:spPr>
          <a:xfrm>
            <a:off x="947880" y="3049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елоярский рай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Ханты-Мансийский автономный округ - Юг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Прямоугольник 1"/>
          <p:cNvGrpSpPr/>
          <p:nvPr/>
        </p:nvGrpSpPr>
        <p:grpSpPr>
          <a:xfrm>
            <a:off x="596880" y="1504800"/>
            <a:ext cx="3139920" cy="927360"/>
            <a:chOff x="596880" y="1504800"/>
            <a:chExt cx="3139920" cy="927360"/>
          </a:xfrm>
        </p:grpSpPr>
        <p:pic>
          <p:nvPicPr>
            <p:cNvPr id="249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596880" y="1504800"/>
              <a:ext cx="313992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17400" y="1531800"/>
              <a:ext cx="3095640" cy="8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Прямоугольник 2" descr=""/>
          <p:cNvPicPr/>
          <p:nvPr/>
        </p:nvPicPr>
        <p:blipFill>
          <a:blip r:embed="rId2"/>
          <a:stretch/>
        </p:blipFill>
        <p:spPr>
          <a:xfrm>
            <a:off x="566640" y="1633680"/>
            <a:ext cx="3133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252" name="Прямоугольник 5"/>
          <p:cNvGrpSpPr/>
          <p:nvPr/>
        </p:nvGrpSpPr>
        <p:grpSpPr>
          <a:xfrm>
            <a:off x="2120760" y="2670120"/>
            <a:ext cx="3067200" cy="1000080"/>
            <a:chOff x="2120760" y="2670120"/>
            <a:chExt cx="3067200" cy="1000080"/>
          </a:xfrm>
        </p:grpSpPr>
        <p:pic>
          <p:nvPicPr>
            <p:cNvPr id="253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120760" y="2670120"/>
              <a:ext cx="30672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2144880" y="2692440"/>
              <a:ext cx="302076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Прямоугольник 6"/>
          <p:cNvGrpSpPr/>
          <p:nvPr/>
        </p:nvGrpSpPr>
        <p:grpSpPr>
          <a:xfrm>
            <a:off x="3529080" y="3846600"/>
            <a:ext cx="3225600" cy="974520"/>
            <a:chOff x="3529080" y="3846600"/>
            <a:chExt cx="3225600" cy="974520"/>
          </a:xfrm>
        </p:grpSpPr>
        <p:pic>
          <p:nvPicPr>
            <p:cNvPr id="256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3529080" y="3846600"/>
              <a:ext cx="322560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552840" y="3868560"/>
              <a:ext cx="3178080" cy="9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Прямоугольник 7"/>
          <p:cNvGrpSpPr/>
          <p:nvPr/>
        </p:nvGrpSpPr>
        <p:grpSpPr>
          <a:xfrm>
            <a:off x="4718160" y="5052960"/>
            <a:ext cx="3913200" cy="1036800"/>
            <a:chOff x="4718160" y="5052960"/>
            <a:chExt cx="3913200" cy="1036800"/>
          </a:xfrm>
        </p:grpSpPr>
        <p:pic>
          <p:nvPicPr>
            <p:cNvPr id="259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4718160" y="5052960"/>
              <a:ext cx="39132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740120" y="5079960"/>
              <a:ext cx="38703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Выгнутая вверх стрелка 11"/>
          <p:cNvSpPr/>
          <p:nvPr/>
        </p:nvSpPr>
        <p:spPr>
          <a:xfrm rot="2337000">
            <a:off x="5260680" y="3043080"/>
            <a:ext cx="1303200" cy="468360"/>
          </a:xfrm>
          <a:custGeom>
            <a:avLst/>
            <a:gdLst>
              <a:gd name="textAreaLeft" fmla="*/ 281880 w 1303200"/>
              <a:gd name="textAreaRight" fmla="*/ 963000 w 1303200"/>
              <a:gd name="textAreaTop" fmla="*/ 62640 h 468360"/>
              <a:gd name="textAreaBottom" fmla="*/ 405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45" hR="21600" stAng="10800000" swAng="5400000"/>
                <a:lnTo>
                  <a:pt x="11286" y="0"/>
                </a:lnTo>
                <a:arcTo wR="9345" hR="21600" stAng="-5400000" swAng="3808505"/>
                <a:lnTo>
                  <a:pt x="21389" y="17041"/>
                </a:lnTo>
                <a:lnTo>
                  <a:pt x="19660" y="21600"/>
                </a:lnTo>
                <a:lnTo>
                  <a:pt x="17508" y="17041"/>
                </a:lnTo>
                <a:lnTo>
                  <a:pt x="18478" y="17041"/>
                </a:lnTo>
                <a:arcTo wR="9345" hR="21600" stAng="-1591495" swAng="-3653310"/>
                <a:lnTo>
                  <a:pt x="10315" y="117"/>
                </a:lnTo>
                <a:arcTo wR="9345" hR="21600" stAng="-5555194" swAng="-5244806"/>
                <a:close/>
              </a:path>
              <a:path fill="darkenLess" w="21600" h="21600">
                <a:moveTo>
                  <a:pt x="0" y="21600"/>
                </a:moveTo>
                <a:arcTo wR="9345" hR="21600" stAng="10800000" swAng="5400000"/>
                <a:lnTo>
                  <a:pt x="9345" y="0"/>
                </a:lnTo>
                <a:arcTo wR="9345" hR="21600" stAng="-5400000" swAng="155194"/>
                <a:lnTo>
                  <a:pt x="10315" y="117"/>
                </a:lnTo>
                <a:arcTo wR="9345" hR="21600" stAng="-5555194" swAng="-5244806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Прямоугольник 12" descr=""/>
          <p:cNvPicPr/>
          <p:nvPr/>
        </p:nvPicPr>
        <p:blipFill>
          <a:blip r:embed="rId6"/>
          <a:stretch/>
        </p:blipFill>
        <p:spPr>
          <a:xfrm>
            <a:off x="2193840" y="2809800"/>
            <a:ext cx="3043440" cy="622440"/>
          </a:xfrm>
          <a:prstGeom prst="rect">
            <a:avLst/>
          </a:prstGeom>
          <a:ln w="0">
            <a:noFill/>
          </a:ln>
        </p:spPr>
      </p:pic>
      <p:sp>
        <p:nvSpPr>
          <p:cNvPr id="263" name="Выгнутая вверх стрелка 13"/>
          <p:cNvSpPr/>
          <p:nvPr/>
        </p:nvSpPr>
        <p:spPr>
          <a:xfrm rot="2500800">
            <a:off x="3765240" y="1822320"/>
            <a:ext cx="1307880" cy="495360"/>
          </a:xfrm>
          <a:custGeom>
            <a:avLst/>
            <a:gdLst>
              <a:gd name="textAreaLeft" fmla="*/ 280440 w 1307880"/>
              <a:gd name="textAreaRight" fmla="*/ 965520 w 1307880"/>
              <a:gd name="textAreaTop" fmla="*/ 66240 h 495360"/>
              <a:gd name="textAreaBottom" fmla="*/ 4291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67" hR="21600" stAng="10800000" swAng="5400000"/>
                <a:lnTo>
                  <a:pt x="11312" y="0"/>
                </a:lnTo>
                <a:arcTo wR="9267" hR="21600" stAng="-5400000" swAng="3537488"/>
                <a:lnTo>
                  <a:pt x="21306" y="16200"/>
                </a:lnTo>
                <a:lnTo>
                  <a:pt x="19556" y="21600"/>
                </a:lnTo>
                <a:lnTo>
                  <a:pt x="17217" y="16200"/>
                </a:lnTo>
                <a:lnTo>
                  <a:pt x="18239" y="16200"/>
                </a:lnTo>
                <a:arcTo wR="9267" hR="21600" stAng="-1862512" swAng="-3373876"/>
                <a:lnTo>
                  <a:pt x="10289" y="132"/>
                </a:lnTo>
                <a:arcTo wR="9267" hR="21600" stAng="-5563612" swAng="-5236388"/>
                <a:close/>
              </a:path>
              <a:path fill="darkenLess" w="21600" h="21600">
                <a:moveTo>
                  <a:pt x="0" y="21600"/>
                </a:moveTo>
                <a:arcTo wR="9267" hR="21600" stAng="10800000" swAng="5400000"/>
                <a:lnTo>
                  <a:pt x="9267" y="0"/>
                </a:lnTo>
                <a:arcTo wR="9267" hR="21600" stAng="-5400000" swAng="163612"/>
                <a:lnTo>
                  <a:pt x="10289" y="132"/>
                </a:lnTo>
                <a:arcTo wR="9267" hR="21600" stAng="-5563612" swAng="-5236388"/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Прямоугольник 14" descr=""/>
          <p:cNvPicPr/>
          <p:nvPr/>
        </p:nvPicPr>
        <p:blipFill>
          <a:blip r:embed="rId7"/>
          <a:stretch/>
        </p:blipFill>
        <p:spPr>
          <a:xfrm>
            <a:off x="3828960" y="4164120"/>
            <a:ext cx="2711520" cy="34128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15" descr=""/>
          <p:cNvPicPr/>
          <p:nvPr/>
        </p:nvPicPr>
        <p:blipFill>
          <a:blip r:embed="rId8"/>
          <a:stretch/>
        </p:blipFill>
        <p:spPr>
          <a:xfrm>
            <a:off x="4784760" y="5126040"/>
            <a:ext cx="3889440" cy="896760"/>
          </a:xfrm>
          <a:prstGeom prst="rect">
            <a:avLst/>
          </a:prstGeom>
          <a:ln w="0">
            <a:noFill/>
          </a:ln>
        </p:spPr>
      </p:pic>
      <p:sp>
        <p:nvSpPr>
          <p:cNvPr id="266" name="Выгнутая вверх стрелка 16"/>
          <p:cNvSpPr/>
          <p:nvPr/>
        </p:nvSpPr>
        <p:spPr>
          <a:xfrm rot="1806600">
            <a:off x="6903720" y="4221000"/>
            <a:ext cx="1320840" cy="538200"/>
          </a:xfrm>
          <a:custGeom>
            <a:avLst/>
            <a:gdLst>
              <a:gd name="textAreaLeft" fmla="*/ 279720 w 1320840"/>
              <a:gd name="textAreaRight" fmla="*/ 973800 w 1320840"/>
              <a:gd name="textAreaTop" fmla="*/ 72000 h 538200"/>
              <a:gd name="textAreaBottom" fmla="*/ 466200 h 538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50" hR="21600" stAng="10800000" swAng="5400000"/>
                <a:lnTo>
                  <a:pt x="11350" y="0"/>
                </a:lnTo>
                <a:arcTo wR="9150" hR="21600" stAng="-5400000" swAng="3518215"/>
                <a:lnTo>
                  <a:pt x="21309" y="16200"/>
                </a:lnTo>
                <a:lnTo>
                  <a:pt x="19400" y="21600"/>
                </a:lnTo>
                <a:lnTo>
                  <a:pt x="16909" y="16200"/>
                </a:lnTo>
                <a:lnTo>
                  <a:pt x="18009" y="16200"/>
                </a:lnTo>
                <a:arcTo wR="9150" hR="21600" stAng="-1881785" swAng="-3342020"/>
                <a:lnTo>
                  <a:pt x="10250" y="157"/>
                </a:lnTo>
                <a:arcTo wR="9150" hR="21600" stAng="-5576195" swAng="-5223805"/>
                <a:close/>
              </a:path>
              <a:path fill="darkenLess" w="21600" h="21600">
                <a:moveTo>
                  <a:pt x="0" y="21600"/>
                </a:moveTo>
                <a:arcTo wR="9150" hR="21600" stAng="10800000" swAng="5400000"/>
                <a:lnTo>
                  <a:pt x="9150" y="0"/>
                </a:lnTo>
                <a:arcTo wR="9150" hR="21600" stAng="-5400000" swAng="176195"/>
                <a:lnTo>
                  <a:pt x="10250" y="157"/>
                </a:lnTo>
                <a:arcTo wR="9150" hR="21600" stAng="-5576195" swAng="-522380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Овал 17"/>
          <p:cNvGrpSpPr/>
          <p:nvPr/>
        </p:nvGrpSpPr>
        <p:grpSpPr>
          <a:xfrm>
            <a:off x="1438200" y="2687760"/>
            <a:ext cx="1128960" cy="1000080"/>
            <a:chOff x="1438200" y="2687760"/>
            <a:chExt cx="1128960" cy="1000080"/>
          </a:xfrm>
        </p:grpSpPr>
        <p:pic>
          <p:nvPicPr>
            <p:cNvPr id="268" name="Овал 17" descr=""/>
            <p:cNvPicPr/>
            <p:nvPr/>
          </p:nvPicPr>
          <p:blipFill>
            <a:blip r:embed="rId9"/>
            <a:stretch/>
          </p:blipFill>
          <p:spPr>
            <a:xfrm>
              <a:off x="1438200" y="2687760"/>
              <a:ext cx="11289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70120" y="3002040"/>
              <a:ext cx="4554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Прямоугольник 20" descr=""/>
          <p:cNvPicPr/>
          <p:nvPr/>
        </p:nvPicPr>
        <p:blipFill>
          <a:blip r:embed="rId10"/>
          <a:stretch/>
        </p:blipFill>
        <p:spPr>
          <a:xfrm>
            <a:off x="1670040" y="2876400"/>
            <a:ext cx="665280" cy="62892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8"/>
          <p:cNvSpPr/>
          <p:nvPr/>
        </p:nvSpPr>
        <p:spPr>
          <a:xfrm>
            <a:off x="228600" y="190440"/>
            <a:ext cx="8693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АПЫ БЮДЖЕТНОГО ПРОЦ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ЛОЯР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Овал 23"/>
          <p:cNvGrpSpPr/>
          <p:nvPr/>
        </p:nvGrpSpPr>
        <p:grpSpPr>
          <a:xfrm>
            <a:off x="-85680" y="1500120"/>
            <a:ext cx="1128600" cy="998640"/>
            <a:chOff x="-85680" y="1500120"/>
            <a:chExt cx="1128600" cy="998640"/>
          </a:xfrm>
        </p:grpSpPr>
        <p:pic>
          <p:nvPicPr>
            <p:cNvPr id="273" name="Овал 23" descr=""/>
            <p:cNvPicPr/>
            <p:nvPr/>
          </p:nvPicPr>
          <p:blipFill>
            <a:blip r:embed="rId11"/>
            <a:stretch/>
          </p:blipFill>
          <p:spPr>
            <a:xfrm>
              <a:off x="-85680" y="1500120"/>
              <a:ext cx="11286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246240" y="1814400"/>
              <a:ext cx="455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" name="Прямоугольник 24" descr=""/>
          <p:cNvPicPr/>
          <p:nvPr/>
        </p:nvPicPr>
        <p:blipFill>
          <a:blip r:embed="rId12"/>
          <a:stretch/>
        </p:blipFill>
        <p:spPr>
          <a:xfrm>
            <a:off x="139680" y="1689120"/>
            <a:ext cx="665280" cy="633240"/>
          </a:xfrm>
          <a:prstGeom prst="rect">
            <a:avLst/>
          </a:prstGeom>
          <a:ln w="0">
            <a:noFill/>
          </a:ln>
        </p:spPr>
      </p:pic>
      <p:grpSp>
        <p:nvGrpSpPr>
          <p:cNvPr id="276" name="Овал 25"/>
          <p:cNvGrpSpPr/>
          <p:nvPr/>
        </p:nvGrpSpPr>
        <p:grpSpPr>
          <a:xfrm>
            <a:off x="2773440" y="3882960"/>
            <a:ext cx="1128600" cy="993960"/>
            <a:chOff x="2773440" y="3882960"/>
            <a:chExt cx="1128600" cy="993960"/>
          </a:xfrm>
        </p:grpSpPr>
        <p:pic>
          <p:nvPicPr>
            <p:cNvPr id="277" name="Овал 25" descr=""/>
            <p:cNvPicPr/>
            <p:nvPr/>
          </p:nvPicPr>
          <p:blipFill>
            <a:blip r:embed="rId13"/>
            <a:stretch/>
          </p:blipFill>
          <p:spPr>
            <a:xfrm>
              <a:off x="2773440" y="3882960"/>
              <a:ext cx="11286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105000" y="4194000"/>
              <a:ext cx="455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Прямоугольник 27" descr=""/>
          <p:cNvPicPr/>
          <p:nvPr/>
        </p:nvPicPr>
        <p:blipFill>
          <a:blip r:embed="rId14"/>
          <a:stretch/>
        </p:blipFill>
        <p:spPr>
          <a:xfrm>
            <a:off x="2998800" y="4071960"/>
            <a:ext cx="665280" cy="628560"/>
          </a:xfrm>
          <a:prstGeom prst="rect">
            <a:avLst/>
          </a:prstGeom>
          <a:ln w="0">
            <a:noFill/>
          </a:ln>
        </p:spPr>
      </p:pic>
      <p:grpSp>
        <p:nvGrpSpPr>
          <p:cNvPr id="280" name="Овал 29"/>
          <p:cNvGrpSpPr/>
          <p:nvPr/>
        </p:nvGrpSpPr>
        <p:grpSpPr>
          <a:xfrm>
            <a:off x="3925800" y="5114880"/>
            <a:ext cx="1127160" cy="1000080"/>
            <a:chOff x="3925800" y="5114880"/>
            <a:chExt cx="1127160" cy="1000080"/>
          </a:xfrm>
        </p:grpSpPr>
        <p:pic>
          <p:nvPicPr>
            <p:cNvPr id="281" name="Овал 29" descr=""/>
            <p:cNvPicPr/>
            <p:nvPr/>
          </p:nvPicPr>
          <p:blipFill>
            <a:blip r:embed="rId15"/>
            <a:stretch/>
          </p:blipFill>
          <p:spPr>
            <a:xfrm>
              <a:off x="3925800" y="5114880"/>
              <a:ext cx="11271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260960" y="5427720"/>
              <a:ext cx="4554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Прямоугольник 30" descr=""/>
          <p:cNvPicPr/>
          <p:nvPr/>
        </p:nvPicPr>
        <p:blipFill>
          <a:blip r:embed="rId16"/>
          <a:stretch/>
        </p:blipFill>
        <p:spPr>
          <a:xfrm>
            <a:off x="4151160" y="5310360"/>
            <a:ext cx="665280" cy="633240"/>
          </a:xfrm>
          <a:prstGeom prst="rect">
            <a:avLst/>
          </a:prstGeom>
          <a:ln w="0">
            <a:noFill/>
          </a:ln>
        </p:spPr>
      </p:pic>
      <p:sp>
        <p:nvSpPr>
          <p:cNvPr id="284" name="TextBox 3"/>
          <p:cNvSpPr/>
          <p:nvPr/>
        </p:nvSpPr>
        <p:spPr>
          <a:xfrm>
            <a:off x="8077320" y="4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лайд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Арка 1"/>
          <p:cNvGrpSpPr/>
          <p:nvPr/>
        </p:nvGrpSpPr>
        <p:grpSpPr>
          <a:xfrm>
            <a:off x="3529080" y="1835280"/>
            <a:ext cx="1914480" cy="1341360"/>
            <a:chOff x="3529080" y="1835280"/>
            <a:chExt cx="1914480" cy="1341360"/>
          </a:xfrm>
        </p:grpSpPr>
        <p:pic>
          <p:nvPicPr>
            <p:cNvPr id="286" name="Арка 1" descr=""/>
            <p:cNvPicPr/>
            <p:nvPr/>
          </p:nvPicPr>
          <p:blipFill>
            <a:blip r:embed="rId1"/>
            <a:stretch/>
          </p:blipFill>
          <p:spPr>
            <a:xfrm>
              <a:off x="3529080" y="1835280"/>
              <a:ext cx="19144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 rot="954000">
              <a:off x="3633840" y="2068560"/>
              <a:ext cx="170820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Арка 5"/>
          <p:cNvGrpSpPr/>
          <p:nvPr/>
        </p:nvGrpSpPr>
        <p:grpSpPr>
          <a:xfrm>
            <a:off x="4979880" y="2724120"/>
            <a:ext cx="792360" cy="1494000"/>
            <a:chOff x="4979880" y="2724120"/>
            <a:chExt cx="792360" cy="1494000"/>
          </a:xfrm>
        </p:grpSpPr>
        <p:pic>
          <p:nvPicPr>
            <p:cNvPr id="289" name="Арка 5" descr=""/>
            <p:cNvPicPr/>
            <p:nvPr/>
          </p:nvPicPr>
          <p:blipFill>
            <a:blip r:embed="rId2"/>
            <a:stretch/>
          </p:blipFill>
          <p:spPr>
            <a:xfrm>
              <a:off x="4979880" y="2724120"/>
              <a:ext cx="79236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5155800">
              <a:off x="4667760" y="3137760"/>
              <a:ext cx="14209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Арка 6"/>
          <p:cNvGrpSpPr/>
          <p:nvPr/>
        </p:nvGrpSpPr>
        <p:grpSpPr>
          <a:xfrm>
            <a:off x="3560760" y="3597120"/>
            <a:ext cx="1792440" cy="1455840"/>
            <a:chOff x="3560760" y="3597120"/>
            <a:chExt cx="1792440" cy="1455840"/>
          </a:xfrm>
        </p:grpSpPr>
        <p:pic>
          <p:nvPicPr>
            <p:cNvPr id="292" name="Арка 6" descr=""/>
            <p:cNvPicPr/>
            <p:nvPr/>
          </p:nvPicPr>
          <p:blipFill>
            <a:blip r:embed="rId3"/>
            <a:stretch/>
          </p:blipFill>
          <p:spPr>
            <a:xfrm>
              <a:off x="3560760" y="3597120"/>
              <a:ext cx="1792440" cy="14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 rot="6823800">
              <a:off x="4015080" y="3555000"/>
              <a:ext cx="88416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Арка 8"/>
          <p:cNvGrpSpPr/>
          <p:nvPr/>
        </p:nvGrpSpPr>
        <p:grpSpPr>
          <a:xfrm>
            <a:off x="3029040" y="2577960"/>
            <a:ext cx="952560" cy="1513080"/>
            <a:chOff x="3029040" y="2577960"/>
            <a:chExt cx="952560" cy="1513080"/>
          </a:xfrm>
        </p:grpSpPr>
        <p:pic>
          <p:nvPicPr>
            <p:cNvPr id="295" name="Арка 8" descr=""/>
            <p:cNvPicPr/>
            <p:nvPr/>
          </p:nvPicPr>
          <p:blipFill>
            <a:blip r:embed="rId4"/>
            <a:stretch/>
          </p:blipFill>
          <p:spPr>
            <a:xfrm>
              <a:off x="3029040" y="2577960"/>
              <a:ext cx="95256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4939200">
              <a:off x="2809800" y="2965320"/>
              <a:ext cx="139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Стрелка вниз 3"/>
          <p:cNvSpPr/>
          <p:nvPr/>
        </p:nvSpPr>
        <p:spPr>
          <a:xfrm rot="2421600">
            <a:off x="5376600" y="4182840"/>
            <a:ext cx="415800" cy="65376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7f7f7f"/>
          </a:solidFill>
          <a:ln w="158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трелка влево 4"/>
          <p:cNvSpPr/>
          <p:nvPr/>
        </p:nvSpPr>
        <p:spPr>
          <a:xfrm rot="2934000">
            <a:off x="2837160" y="4051800"/>
            <a:ext cx="727200" cy="45252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7f7f7f"/>
          </a:solidFill>
          <a:ln w="158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трелка вверх 10"/>
          <p:cNvSpPr/>
          <p:nvPr/>
        </p:nvSpPr>
        <p:spPr>
          <a:xfrm rot="2733000">
            <a:off x="3221640" y="2042280"/>
            <a:ext cx="385560" cy="622440"/>
          </a:xfrm>
          <a:prstGeom prst="upArrow">
            <a:avLst>
              <a:gd name="adj1" fmla="val 50000"/>
              <a:gd name="adj2" fmla="val 50038"/>
            </a:avLst>
          </a:prstGeom>
          <a:solidFill>
            <a:srgbClr val="7f7f7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трелка вниз 11"/>
          <p:cNvSpPr/>
          <p:nvPr/>
        </p:nvSpPr>
        <p:spPr>
          <a:xfrm rot="18929400">
            <a:off x="5533920" y="2199960"/>
            <a:ext cx="411120" cy="66204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7f7f7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Овал 12"/>
          <p:cNvSpPr/>
          <p:nvPr/>
        </p:nvSpPr>
        <p:spPr>
          <a:xfrm>
            <a:off x="5191200" y="2009880"/>
            <a:ext cx="563400" cy="43632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вал 13"/>
          <p:cNvSpPr/>
          <p:nvPr/>
        </p:nvSpPr>
        <p:spPr>
          <a:xfrm>
            <a:off x="5607000" y="3948120"/>
            <a:ext cx="544680" cy="41580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14"/>
          <p:cNvSpPr/>
          <p:nvPr/>
        </p:nvSpPr>
        <p:spPr>
          <a:xfrm>
            <a:off x="3240000" y="4392720"/>
            <a:ext cx="420840" cy="41580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5"/>
          <p:cNvSpPr/>
          <p:nvPr/>
        </p:nvSpPr>
        <p:spPr>
          <a:xfrm>
            <a:off x="2760840" y="2454120"/>
            <a:ext cx="492120" cy="45720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8"/>
          <p:cNvSpPr/>
          <p:nvPr/>
        </p:nvSpPr>
        <p:spPr>
          <a:xfrm>
            <a:off x="3732120" y="2130480"/>
            <a:ext cx="14716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9"/>
          <p:cNvSpPr/>
          <p:nvPr/>
        </p:nvSpPr>
        <p:spPr>
          <a:xfrm>
            <a:off x="4248000" y="3119400"/>
            <a:ext cx="2586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, рассмотрение и утверждение годового отчета об исполнении бюдже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1"/>
          <p:cNvSpPr/>
          <p:nvPr/>
        </p:nvSpPr>
        <p:spPr>
          <a:xfrm>
            <a:off x="2374920" y="3106800"/>
            <a:ext cx="202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и утверждение бюдже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2"/>
          <p:cNvSpPr/>
          <p:nvPr/>
        </p:nvSpPr>
        <p:spPr>
          <a:xfrm>
            <a:off x="3664080" y="4087800"/>
            <a:ext cx="160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роекта бюджет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3"/>
          <p:cNvSpPr/>
          <p:nvPr/>
        </p:nvSpPr>
        <p:spPr>
          <a:xfrm>
            <a:off x="0" y="4605480"/>
            <a:ext cx="2798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ются основные направления налоговой, бюджетной политики и характеристики бюджета района (поселения) на очередной финансовый год и плановый перио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5"/>
          <p:cNvSpPr/>
          <p:nvPr/>
        </p:nvSpPr>
        <p:spPr>
          <a:xfrm>
            <a:off x="3240" y="1527120"/>
            <a:ext cx="250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проекта решения о бюджете в одном чте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6"/>
          <p:cNvSpPr/>
          <p:nvPr/>
        </p:nvSpPr>
        <p:spPr>
          <a:xfrm>
            <a:off x="6076800" y="1494000"/>
            <a:ext cx="279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обеспечивается администрацией района (поселени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7"/>
          <p:cNvSpPr/>
          <p:nvPr/>
        </p:nvSpPr>
        <p:spPr>
          <a:xfrm>
            <a:off x="6135840" y="4565520"/>
            <a:ext cx="3016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и финансового года, а также по итогам года  составляется бюджетная отчетност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1"/>
          <p:cNvSpPr/>
          <p:nvPr/>
        </p:nvSpPr>
        <p:spPr>
          <a:xfrm>
            <a:off x="3240" y="2016000"/>
            <a:ext cx="27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зультатам рассмотрения проект решения о бюджете утверждается Думой района (советом депутатов поселени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24"/>
          <p:cNvSpPr/>
          <p:nvPr/>
        </p:nvSpPr>
        <p:spPr>
          <a:xfrm>
            <a:off x="33480" y="195120"/>
            <a:ext cx="9296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НОВНЫЕ МЕРОПРИЯТИЯ ПО ЭТАПАМ БЮДЖЕТНОГО ПРОЦЕССА БЕЛОЯРСКОГО РАЙОНА И ПОСЕ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Овал 42"/>
          <p:cNvSpPr/>
          <p:nvPr/>
        </p:nvSpPr>
        <p:spPr>
          <a:xfrm>
            <a:off x="763560" y="1000080"/>
            <a:ext cx="492120" cy="45720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Овал 43"/>
          <p:cNvSpPr/>
          <p:nvPr/>
        </p:nvSpPr>
        <p:spPr>
          <a:xfrm>
            <a:off x="847800" y="3960720"/>
            <a:ext cx="501480" cy="46512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45"/>
          <p:cNvSpPr/>
          <p:nvPr/>
        </p:nvSpPr>
        <p:spPr>
          <a:xfrm>
            <a:off x="-3240" y="55008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распределение бюджетных ассигнований по муниципальным программам района (поселени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6"/>
          <p:cNvSpPr/>
          <p:nvPr/>
        </p:nvSpPr>
        <p:spPr>
          <a:xfrm>
            <a:off x="30240" y="6054840"/>
            <a:ext cx="34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тся прогноз социально-экономического развития  района (поселени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47"/>
          <p:cNvSpPr/>
          <p:nvPr/>
        </p:nvSpPr>
        <p:spPr>
          <a:xfrm>
            <a:off x="6470640" y="2019240"/>
            <a:ext cx="2851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ый орган  района организует исполнение бюджета района (поселения) на основе сводной бюджетной росписи и кассового плана. Бюджет исполняется по доходам, расходам и источникам финансирования дефицита бюджета на основе принципов единства кассы и подведомственности расх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48"/>
          <p:cNvSpPr/>
          <p:nvPr/>
        </p:nvSpPr>
        <p:spPr>
          <a:xfrm>
            <a:off x="7361280" y="1020600"/>
            <a:ext cx="565200" cy="4366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9"/>
          <p:cNvSpPr/>
          <p:nvPr/>
        </p:nvSpPr>
        <p:spPr>
          <a:xfrm>
            <a:off x="5222880" y="5695920"/>
            <a:ext cx="4132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ой отчет об исполнении бюджета района (поселения) направляется на внешнюю проверку в контрольно-счетную палату района и вносится в Думу района (совет депутатов поселения) для утверждения в форме решения Думы (совета депутатов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50"/>
          <p:cNvSpPr/>
          <p:nvPr/>
        </p:nvSpPr>
        <p:spPr>
          <a:xfrm>
            <a:off x="5653080" y="5146560"/>
            <a:ext cx="327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исполнении бюджета района (1 квартал, первое полугодие, 9 месяцев) утверждается постановлением администрации района (поселени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Овал 51"/>
          <p:cNvSpPr/>
          <p:nvPr/>
        </p:nvSpPr>
        <p:spPr>
          <a:xfrm>
            <a:off x="7464600" y="3960720"/>
            <a:ext cx="572760" cy="41616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2"/>
          <p:cNvSpPr/>
          <p:nvPr/>
        </p:nvSpPr>
        <p:spPr>
          <a:xfrm>
            <a:off x="8188200" y="-842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лайд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2"/>
          <p:cNvSpPr/>
          <p:nvPr/>
        </p:nvSpPr>
        <p:spPr>
          <a:xfrm>
            <a:off x="228600" y="184320"/>
            <a:ext cx="86947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НОВНЫЕ ПАРАМЕТРЫ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ЛОЯР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287280" y="1295280"/>
          <a:ext cx="8577360" cy="4984920"/>
        </p:xfrm>
        <a:graphic>
          <a:graphicData uri="http://schemas.openxmlformats.org/drawingml/2006/table">
            <a:tbl>
              <a:tblPr/>
              <a:tblGrid>
                <a:gridCol w="3370320"/>
                <a:gridCol w="1717560"/>
                <a:gridCol w="1744920"/>
                <a:gridCol w="1744560"/>
              </a:tblGrid>
              <a:tr h="26352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</a:tr>
              <a:tr h="461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бюджета, из них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20 945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32 753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02 807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</a:tr>
              <a:tr h="5032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 из бюджета автономного округа, в том числе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52 859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43 010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99 708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</a:tr>
              <a:tr h="27792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таци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8 849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 942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7 327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</a:tr>
              <a:tr h="27792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убсид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4 701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4 201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 054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</a:tr>
              <a:tr h="27612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убвен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74 760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29 613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59 052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ные межбюджетные трансферты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549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 254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275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</a:tr>
              <a:tr h="6922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безвозмездных поступлений   автономного округа в доходах  бюджета райо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</a:tr>
              <a:tr h="434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бюджет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199 524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88 823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30 224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</a:tr>
              <a:tr h="6922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расходов на социальную сферу в общей сумме расходов бюджета, в процентах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</a:tr>
              <a:tr h="554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цит/дефицит бюдже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4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6 0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7 4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</a:tr>
            </a:tbl>
          </a:graphicData>
        </a:graphic>
      </p:graphicFrame>
      <p:sp>
        <p:nvSpPr>
          <p:cNvPr id="327" name="TextBox 4"/>
          <p:cNvSpPr/>
          <p:nvPr/>
        </p:nvSpPr>
        <p:spPr>
          <a:xfrm>
            <a:off x="8077320" y="1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лайд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7086600" y="92232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51:52Z</dcterms:created>
  <dc:creator>Роман</dc:creator>
  <dc:description/>
  <dc:language>en-US</dc:language>
  <cp:lastModifiedBy>Ахметчина Надежда Николаевна</cp:lastModifiedBy>
  <cp:lastPrinted>2019-01-28T09:07:04Z</cp:lastPrinted>
  <dcterms:modified xsi:type="dcterms:W3CDTF">2019-01-28T09:25:35Z</dcterms:modified>
  <cp:revision>675</cp:revision>
  <dc:subject/>
  <dc:title>Информационные Технологии Стабильности и Развития</dc:title>
</cp:coreProperties>
</file>